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8C20-4245-4EA3-9CD8-556C4DD0AD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56D-6941-45F4-B464-D1C1FFC035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FB4-BD8C-4ADD-B73D-697B0AB42D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431D-9BC2-4CDB-A2E5-A2E36EA44A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693-96A1-4B88-8875-2C29FB483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DC55-E9C6-4D90-A480-CFC64559D6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A25-0531-47D3-8A97-A148D5CC73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90F-9864-4D92-8152-485730692B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A75-A6C2-48DA-8895-1D42785372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792-C97F-4986-BA75-C54250E83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E95-6B6D-4297-A555-EB721542FA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0BB-45C8-4E19-BCAF-C18BCA585F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A40-B926-43A6-A948-1D342DD85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A21-562B-4E7B-805E-9DDBB3A142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429-681F-429B-A604-B7CD7201EA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3A6-FC4D-4015-BA4A-E59DBCC28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27D9-CA8E-4150-97DF-8F28603C01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5F1-4B99-4D1A-BC39-B331D323F9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761C-B294-4C1C-80C9-C957BEE77C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467C-530F-428D-BA44-AAF391DBB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B33-D0ED-44E8-8A2F-282723317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211-6F09-4088-A16C-04E8903D8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D0A2-21A1-4864-BCAF-C6DE934AB9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61D-EC50-4279-A63E-2656B9C48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02A-5D25-4E16-A57C-B82369AB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98A-D442-4BF1-9AE0-5E3565F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B23-8333-4F24-BE31-7B7F4D89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8A8-90E8-42A8-AB9E-2A20C144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152-2C47-4D1D-AA59-901DACB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5B8-B3D5-42E7-B625-078FF1C6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F04-04D6-4EB9-86D8-A733496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4A4-2F7F-4561-A989-DCCCC6C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A84-A137-4049-9BF2-B36F3BBA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CC2-94D9-4ADF-A59D-8BE4A85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089-7D77-402A-A007-ACABA7E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2EC-07E0-4513-AFBC-8F87AE1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3D7-30B7-487C-9778-3915B2FAB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MComer</cp:lastModifiedBy>
  <cp:lastPrinted>2002-01-14T14:33:47Z</cp:lastPrinted>
  <dcterms:modified xsi:type="dcterms:W3CDTF">2010-02-17T15:32:15Z</dcterms:modified>
  <cp:revision>31</cp:revision>
  <dc:subject/>
  <dc:title>WHAT ARE NOUNS? </dc:title>
</cp:coreProperties>
</file>